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ECC-B4F6-4906-A06A-0A7AFF7F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B1F-0688-48F9-86FD-24B3C703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02E-10AD-44F9-A6BC-413B98C9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C64-22B5-4E21-B8AE-3C1C9AD7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254-AFC5-401C-9D0D-CA996840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2B2-3234-4935-8147-73EFBAB1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1F5-923C-45F8-AA8F-1AFBA2B3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933-4759-44FA-BC17-A11E5B55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AD5-F7B9-44C5-B02F-265C2835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F57-E0B7-42B9-A220-A3DC32BF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7CF-70AF-47CB-A1E5-22E02683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241-5528-483A-B15D-022E125E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9A25-8BF5-42ED-86EC-E7C56F515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38088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ur Scrapbook of the Trans-Siberian Railroad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59436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317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76800" cy="319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257328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10080" y="4092480"/>
            <a:ext cx="3733920" cy="276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3932280"/>
            <a:ext cx="3886200" cy="292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971800" y="22860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Mosco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4560" cy="434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51640" y="0"/>
            <a:ext cx="2592360" cy="3962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3352680" cy="250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295280" y="533412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oudy Stout"/>
              </a:rPr>
              <a:t>Per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1995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199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819520" y="2438280"/>
            <a:ext cx="4038480" cy="3036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657600" y="609480"/>
            <a:ext cx="2819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"/>
              </a:rPr>
              <a:t>Oms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36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00600" y="3238560"/>
            <a:ext cx="4343400" cy="361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971800" y="2743200"/>
            <a:ext cx="3657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Novosibirs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56040" cy="426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00600" y="3592440"/>
            <a:ext cx="4343400" cy="3265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809880" y="1143000"/>
            <a:ext cx="4419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oudy Stout"/>
              </a:rPr>
              <a:t>Irkutsk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218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38920" y="0"/>
            <a:ext cx="2305080" cy="3581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4246560"/>
            <a:ext cx="3962520" cy="261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410080" y="4103640"/>
            <a:ext cx="3733920" cy="2754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276720" y="1981080"/>
            <a:ext cx="2657520" cy="1855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895480" y="380880"/>
            <a:ext cx="3886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Lake Baik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4960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2782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00400" y="3200400"/>
            <a:ext cx="274968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743200" y="7621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Khabarovs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797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279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362320" y="3929040"/>
            <a:ext cx="3886200" cy="2928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590920" y="3124080"/>
            <a:ext cx="365760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ladivost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4:38:09Z</dcterms:created>
  <dc:creator>meganroberts</dc:creator>
  <dc:description/>
  <dc:language>en-US</dc:language>
  <cp:lastModifiedBy>meganroberts</cp:lastModifiedBy>
  <dcterms:modified xsi:type="dcterms:W3CDTF">2008-11-25T14:27:31Z</dcterms:modified>
  <cp:revision>5</cp:revision>
  <dc:subject/>
  <dc:title>Slide 1</dc:title>
</cp:coreProperties>
</file>